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38040" y="655200"/>
            <a:ext cx="4383000" cy="328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BC1A-302D-48C2-87EB-D06422AD8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2: What is heritability, and how does it relate to individuals and group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4: What is the promise of molecular genetics resear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4: How do evolutionary psychologists use natural selection to explain behavior tendenc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5: How might and evolutionary psychologist explain gender differences in mating prefer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6: What are the key criticisms of evolutionary psycholo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view Question 7: To what extent are our lives shaped by early stimulation, by parents, and by pe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8: How do cultural norms affect our behavi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9: How do individualist and collectivist influences affect peo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0: What are some ways in which males and females tend to be alike and to diff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1: How do nature and nurture together form our gen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: What are genes, and how do behavior geneticists explain individual differ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5A0-5B56-4D77-8E90-902A3D50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018-8650-493A-8DBF-F55D75EB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6B1-ACFF-4434-A202-8989EAA7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9A0A-7293-474E-9982-841CADF2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774-603A-4480-9E7A-DF5D1D81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1FDF-97D9-4121-AB2B-0A68C3C4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ED15-C48C-444D-A9A3-D60F54A5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EC4C-DF58-491F-B177-F43575D5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17A9-3FB0-4032-9F6E-A7EAB960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AAC-AD92-493E-B23A-2C8B8E1D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FC3-F861-4AD3-BE3D-4C907B43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9F3-295B-4CD8-ABF0-817E30FE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B555-D377-420C-A85B-12ECC39BD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su.edu/dept/dap/StyleGuide/Images/c_ova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1999800"/>
            <a:ext cx="777240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Palatino Linotype"/>
              </a:rPr>
              <a:t>PSYCHOLOGY</a:t>
            </a:r>
            <a:br>
              <a:rPr sz="4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(9th Edition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avid G. M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44880" y="4114800"/>
            <a:ext cx="4827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PowerPoint Sl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Aneeq Ahm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Henderson State Univers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orth Publishers, ©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29000" y="5315040"/>
            <a:ext cx="48420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3D7-3CE8-414A-B56E-3199DE93E7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s: Our Codes for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1400" y="1600200"/>
            <a:ext cx="77724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gments within DNA consist of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ene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that make proteins to determine our develop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28800" y="2700360"/>
            <a:ext cx="6297480" cy="39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B1DA-85B5-45F6-B0D2-97BA59E5E5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1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enom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s the set of complete instructions for making an organism, containing all the genes in that organism. Thus, the human genome makes us human, and the genome for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drosophila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makes it a common house f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64D-AABD-48F9-807B-CB5F79E1EE6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400" y="280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win and Adoption Stu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1400" y="16002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udying the effects of heredity and environment on two sets of twins, identical and fraternal, has come in han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52640" y="3200400"/>
            <a:ext cx="7010280" cy="328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F98A-6B0D-48AF-8A4D-AC6720D9DB5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eparated Tw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1400" y="16002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number of studies compared identical twins reared separately from birth, or close thereafter, and found numerous similar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728800" y="3276720"/>
          <a:ext cx="3657600" cy="32763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562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eparated Tw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ersonality, Intellig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2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bilities, Attitu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nterests, F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rain Waves, Heart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E7C-EF74-4A09-9EF9-FD3C4207D45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eparated Tw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1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ritics of separated twin studies note that such similarities can be found between strangers. Researchers point out that differences between fraternal twins are greater than identical tw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903400" y="3894120"/>
            <a:ext cx="3308400" cy="2720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rot="5400000">
            <a:off x="5931360" y="6112440"/>
            <a:ext cx="80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Bob Sach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D1A-F977-4654-AF90-9C2FDDF2EFA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iological Versu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doptive Rel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doption studies, as opposed to twin studies, suggest that adoptees (who may be biologically unrelated) tend to be different from their adoptive parents and sibl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46480" y="3471840"/>
            <a:ext cx="4421160" cy="298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10DC-9DCE-4DF5-9B6B-71552C6755B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doptive Stu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1400" y="16002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doptive studies strongly point to the simple fact that biologically related children turn out to be different in a family. So investigators as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276720"/>
            <a:ext cx="7729560" cy="8683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siblings have differing experie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343400"/>
            <a:ext cx="7729560" cy="8683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siblings, despite sharing half of their genes, have different combinations of the other half of their ge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380200"/>
            <a:ext cx="7729560" cy="8683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ltimate ques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parenting have an eff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FBE-7942-4CAC-BB19-4476489FB9E9}" type="slidenum">
              <a:t>1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aren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140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renting does have an effect on biologically related and unrelated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728800" y="3276720"/>
          <a:ext cx="3657600" cy="280188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arenting Influences Children’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ttitudes, Val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Manners, Belief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07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Faith, Poli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127C-BFA7-4794-B9EA-867A7ADD18B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emperament and Hered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1400" y="2743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emperament refers to a person’s stable emotional reactivity and intensity. Identical twins express similar temperaments, suggesting heredity predisposes tempera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E608-9AA9-40DF-9E1C-84CE3296A41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Nature </a:t>
            </a:r>
            <a:r>
              <a:rPr b="0" i="1" lang="en-US" sz="4000" spc="-1" strike="noStrike">
                <a:solidFill>
                  <a:srgbClr val="000000"/>
                </a:solidFill>
                <a:latin typeface="Palatino Linotype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 Nur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1400" y="16002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ome human traits are fixed, such as having two eyes.  However, most psychological traits are liable to change with environmental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1400" y="37339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07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s provide choices for the organism to change its form or traits when environmental variables change. Therefore, genes are pliable or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self-regulating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74AF-23F4-40F5-9320-843F9F023D49}" type="slidenum">
              <a:t>19</a:t>
            </a:fld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9280" y="3061800"/>
            <a:ext cx="7681680" cy="31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Nature, Nurture, and Human Diversity</a:t>
            </a:r>
            <a:br>
              <a:rPr sz="5400"/>
            </a:b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2398680" cy="28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B33-D4DE-4535-A3C9-6298B8AA33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ene-Environment Inte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1400" y="16002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s can influence traits which affect responses, and environment can affect gene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1400" y="37339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07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genetic predisposition that makes a child restless and hyperactive evokes an angry response from his parents. A stressful environment can trigger genes to manufacture neurotransmitters leading to de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7F6-E2F9-4F50-8D17-D16C82330A40}" type="slidenum">
              <a:t>20</a:t>
            </a:fld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ene-Environment Inte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14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s and environment affect our traits individually, but more important are their interactive eff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57200" y="3048120"/>
            <a:ext cx="6400800" cy="2584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07320" y="5791320"/>
            <a:ext cx="610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eople respond differently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Rowan Atkinson (Mr. Bean) than Orlando blo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4880" y="79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985200" y="505836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Rex Fea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6682680" y="4367880"/>
            <a:ext cx="23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Alessia Pierdomenico/Reuters/Cor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2D4-1549-469B-935A-009F947B845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volutionary Psychology: Understanding Human N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1400" y="29718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Evolutionary psychology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studies why we as humans are alike. In particular, it studies the evolution of behavior and mind using principles of natural se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BB8-24F2-492D-86C5-002555F17D4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Natural S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14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Natural selec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s an evolutionary process through which adaptive traits are passed on to ongoing generations because these traits help animals survive and reprodu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85A-C963-4445-962D-BB676331AAD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rtificial S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14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iologists like Belyaev and Trut (1999) were able to artificially rear and domesticate wild foxes, selecting them for friendly trai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835360" y="2971800"/>
            <a:ext cx="3444840" cy="3000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92280" y="6019920"/>
            <a:ext cx="592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ny trait that is favored naturally or artifici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preads to future gene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4897440" y="4506840"/>
            <a:ext cx="300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L.N. Trur, </a:t>
            </a: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American Scientist </a:t>
            </a: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(1999) 87: 160-1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AB6-44F6-43AD-A589-6FDF5C3774D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uman Tra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number of human traits have been identified as a result of pressures afforded by natural se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276720"/>
            <a:ext cx="7729560" cy="8683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infants fear strangers when they become mobi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343400"/>
            <a:ext cx="7729560" cy="8683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people fear spiders and snakes and not electricity and gu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0480" y="5394240"/>
            <a:ext cx="7729560" cy="8683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men and women alike? How and why do men’s and women’s sexuality diff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3A55-4594-465B-A30D-6BD773865F3D}" type="slidenum">
              <a:t>25</a:t>
            </a:fld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uman Sexu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1400" y="21337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les and females, to a large extent, behave and think similarly. Differences in sexes arise in regards to reproductive behavi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93160" y="1614600"/>
            <a:ext cx="55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der Differences in Sex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3581280"/>
          <a:ext cx="7543800" cy="2666880"/>
        </p:xfrm>
        <a:graphic>
          <a:graphicData uri="http://schemas.openxmlformats.org/drawingml/2006/table">
            <a:tbl>
              <a:tblPr/>
              <a:tblGrid>
                <a:gridCol w="4967280"/>
                <a:gridCol w="1357560"/>
                <a:gridCol w="121896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Question (summariz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Fe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37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asual s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5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37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ex for aff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Think about sex every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5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C113-C715-409F-A9CA-7B25DC42953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Natural Selection &amp; Mating P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5640" y="1981080"/>
            <a:ext cx="81392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atural selection has caused males to send their genes into the future by mating with multiple females since males have lower costs involv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680" y="4114800"/>
            <a:ext cx="795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ever, females select one mature and caring male because of the higher costs involved with pregnancy and nur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8F6-D5A3-4DE8-9363-0B25520238DB}" type="slidenum">
              <a:t>27</a:t>
            </a:fld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ating P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0680" y="1414440"/>
            <a:ext cx="8138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les look for youthful appearing females in order to pass their genes into the future. Females, on the other hand, look for maturity, dominance, affluence and boldness in m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20880" y="3429000"/>
            <a:ext cx="5500800" cy="2838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850120" y="6251400"/>
            <a:ext cx="342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Data based on 37 cultu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74D3-1536-4D0E-BBB1-7E870BDE966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ritiquing the Evolutionary Persp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690560"/>
            <a:ext cx="7729560" cy="10526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ary psychologists take a behavior and work backward to explain it in terms of natural sel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3124080"/>
            <a:ext cx="7758000" cy="10969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ary psychology proposes genetic determinism and undercuts morality in establishing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572000"/>
            <a:ext cx="7758000" cy="11444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genders are unequal, gender preferences are wide, but when they are closely equal, preferences narrow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607-C337-4727-AAF5-C1C95A1E4DC7}" type="slidenum">
              <a:t>29</a:t>
            </a:fld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Nature, Nurture, and Human 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694872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Behavior Genetics: Predicting Individual 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9360" indent="-258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s: Our Codes for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9360" indent="-258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win and Adoption Stud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9360" indent="-258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emperament and Here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9360" indent="-258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er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9360" indent="-258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-Environment 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9360" indent="-258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New Frontier: Molecular Gene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0EF7-6709-4EAF-A8B4-CD9212C545F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volutionary Psychologists Re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690560"/>
            <a:ext cx="7729560" cy="1281240"/>
          </a:xfrm>
          <a:prstGeom prst="roundRect">
            <a:avLst>
              <a:gd name="adj" fmla="val 16667"/>
            </a:avLst>
          </a:prstGeom>
          <a:solidFill>
            <a:srgbClr val="ffc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ary psychologists argue that we need to test behaviors that expound evolutionary princi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1400" y="3200400"/>
            <a:ext cx="7729560" cy="1158840"/>
          </a:xfrm>
          <a:prstGeom prst="roundRect">
            <a:avLst>
              <a:gd name="adj" fmla="val 16667"/>
            </a:avLst>
          </a:prstGeom>
          <a:solidFill>
            <a:srgbClr val="ffc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ary psychologists remind us how we have adapted, but do not dictate how we ought to 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1400" y="4572000"/>
            <a:ext cx="7758360" cy="1111320"/>
          </a:xfrm>
          <a:prstGeom prst="roundRect">
            <a:avLst>
              <a:gd name="adj" fmla="val 16667"/>
            </a:avLst>
          </a:prstGeom>
          <a:solidFill>
            <a:srgbClr val="ffc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es and females are more alike than different, and if we study these differences we can establish their c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8D5-79BF-4594-96C9-0C25C5FB4FFC}" type="slidenum">
              <a:t>30</a:t>
            </a:fld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Nature, Nurture, and Human 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1900080"/>
            <a:ext cx="625788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Parents and Pe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rents and Early Exper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er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955-288B-4E37-9791-3DF1D386E56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arents and Pe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1400" y="28195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e have looked at how genes influence our developmental differences. What about the environment?  How do our early experiences, our family, our community and our culture affects these differe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8640" y="187308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rents and Early Exper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D4F0-5093-4E63-BF61-3B75E7D5466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xperience and Brain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1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arly postnatal experiences affect brain development. Rosenzweig et al. (1984) showed that rats raised in enriched environments developed thicker cortices than those in impoverished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57400" y="3952800"/>
            <a:ext cx="6789600" cy="26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522E-F901-4E31-8F6D-FA2E908D88B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xperience and Facul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14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arly experiences during development in humans shows remarkable improvements in music, languages and the ar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0200" y="3048120"/>
            <a:ext cx="4114800" cy="3403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5400000">
            <a:off x="6028920" y="5644800"/>
            <a:ext cx="141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Courtesy of C. Bru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2048-BC44-42A8-9F81-FCB4AC79D66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Brain Development and Adulth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1400" y="141444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rain development does not stop when we reach adulthood. Throughout our life, brain tissue continues to grow and chan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81240" y="3048120"/>
            <a:ext cx="6538680" cy="2836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22720" y="6019920"/>
            <a:ext cx="627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 well-learned finger-tapping task lead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more motor cortical neurons (right) than base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6501960" y="4255200"/>
            <a:ext cx="303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Both hotos courtesy of Avi Kani and Lesl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Ungerleider, National Institue of Mental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7624-9356-4C0C-BD30-0A5F8F48D52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ow Much Credit (or Blame) Do Parents Deser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419120"/>
            <a:ext cx="7986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rental influence is largely genetic. This support is essential in nurturing children. However, other socializing factors also play an important r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79760" y="3247920"/>
            <a:ext cx="3757680" cy="2683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87440" y="5931000"/>
            <a:ext cx="434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lthough raised in the same famil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ome children are greater risk tak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5774040" y="5076000"/>
            <a:ext cx="1311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Miquel L. Fairban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9D68-AE13-4D84-998C-8326E2A32C8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eer Influ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1400" y="1419120"/>
            <a:ext cx="77724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hildren, like adults, attempt to fit into a group by conforming. Peers are influential in such areas as learning to cooperate with others, gaining popularity, and developing inter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87600" y="3659040"/>
            <a:ext cx="4122720" cy="2741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5400000">
            <a:off x="6001560" y="5570640"/>
            <a:ext cx="145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Ole Graf/ zefa/ Cor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401-A64C-4B0E-9D01-DEF8EC136CD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Nature, Nurture, and Human 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23800" y="1585800"/>
            <a:ext cx="625788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Cultural Influ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Variations Across Cul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Variations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ulture and the 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ulture and Child-Re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velopmental Similarities Across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7B3-0FAC-49DD-B386-C713197ED4A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ultural Infl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00200"/>
            <a:ext cx="8153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umans have the ability to evolve culture. Culture is composed of behaviors, ideas, attitudes, values and traditions shared by a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347920" y="3629160"/>
            <a:ext cx="4414680" cy="2968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rot="5400000">
            <a:off x="6111720" y="572760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Kevin R. Morris/Cor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482-8DFA-4C47-A612-E485B778E42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94920" y="1900080"/>
            <a:ext cx="625788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Parents and Pe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rents and Early Exper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er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95B-0C91-4EBB-9FCB-7048A6E6004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Variation Across 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600200"/>
            <a:ext cx="8153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ultures differ. Each culture develops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norms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– rules for accepted and expected behavior. Men holding hands in Saudi Arabia is the norm (closer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personal spac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, but not in American cul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27120" y="3581280"/>
            <a:ext cx="4259520" cy="2968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rot="5400000">
            <a:off x="5914080" y="5569200"/>
            <a:ext cx="178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Jason Reed/ Reuters/Cor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38A-B1FD-47EF-B2E2-DDEB1936A5A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Variation Over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ultures change over time. The rate of this change may be extremely fast. In many Western countries, culture has rapidly changed over the past 40 years or 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1400" y="40384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s change cannot be attributed to changes in the human gene pool because genes evolve very slow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F0E-293D-44B0-A186-94E613F1A2C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ulture and the 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419120"/>
            <a:ext cx="449100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f a culture nurtures an individual’s personal identity, it is said to b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individualist,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but if a group identity is favored then the culture is described as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ollectivist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ollectivist support system can benefit groups who experience disasters such as the 2005 earthquake in Pakis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795920" y="1600200"/>
            <a:ext cx="3647880" cy="4343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rot="5400000">
            <a:off x="8101080" y="536004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Kyodo Ne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8B3D-504F-4F29-812F-7355B4EE350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ulture and the 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00000" y="1600200"/>
            <a:ext cx="7315200" cy="46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63D-6F0E-4066-8C09-A151DC5BE19A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ulture and Child-Rea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dividualist cultures (European) raise their children as independent individuals whereas collectivist cultures (Asian) raise their children as interdepen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336760" y="3429000"/>
            <a:ext cx="4442040" cy="2968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rot="5400000">
            <a:off x="5959080" y="5375880"/>
            <a:ext cx="188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Jose Luis Palaez, Inc./ Cor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0346-316D-4434-9ADE-BD89915AF25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ulture and Child-Rea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00000" y="1981080"/>
          <a:ext cx="7315200" cy="3886200"/>
        </p:xfrm>
        <a:graphic>
          <a:graphicData uri="http://schemas.openxmlformats.org/drawingml/2006/table">
            <a:tbl>
              <a:tblPr/>
              <a:tblGrid>
                <a:gridCol w="3711600"/>
                <a:gridCol w="360360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Westernized Cult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sian-African Cult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Responsible for your se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Responsible to gr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Follow your consc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riority to obed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4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Discover your gif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e true to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family-se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4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e true to yourse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e loyal to your gr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4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e indepen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e interdepen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B644-91F3-4AAB-903B-A250273B8A2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evelopmental Similarities Across Grou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spite diverse cultural backgrounds, humans are more similar than different in many ways. We share the same genetic profile, life cycle, capacity for language, and biological nee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57440" y="3660840"/>
            <a:ext cx="3957840" cy="2968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 rot="5400000">
            <a:off x="5886720" y="5784840"/>
            <a:ext cx="149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Copyright Steve Reeh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697-2BE3-4D62-ACAE-28B15AF8E9D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Nature, Nurture, and Human 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3800" y="1600200"/>
            <a:ext cx="625788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Gender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der 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Nature of G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Nurture of G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20AC-9F1C-419C-995C-A62277F2B29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der Develo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1400" y="16002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ased on genetic makeup, males and females are alike, since the majority of our inherited genes (45 chromosomes are unisex) are simi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1400" y="39625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les and females differ biologically in body fat, muscle, height, onset of puberty, and life expecta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789-E590-4B33-AC9E-96565DC9EDA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ender Differences in Aggr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1400" y="16002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en express themselves and behave in more aggressive ways than do women. This aggression gender gap appears in many cultures and at various ag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1400" y="3886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males, the nature of this aggression is phys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A403-F819-4B5B-9ACA-D76E08D8714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423800" y="1585800"/>
            <a:ext cx="625788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Cultural Influ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Variations Across Cul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Variations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ulture and the 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ulture and Child-Re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velopmental Similarities Across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9BC-AAAE-44FC-8397-BE32F090BF4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ender and Social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1400" y="19051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most societies, men are socially dominant and are perceived as su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1400" y="3886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2005, men accounted for 84% of the governing parlia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9F1D-7576-463C-AC46-EFFA8FA8DB9B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ender Differences and Connected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Young and old, women form more connections (friendships) with people than do men. Men emphasize freedom and self-reli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100160" y="3429000"/>
            <a:ext cx="7176960" cy="2840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rot="5400000">
            <a:off x="3657960" y="525204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Oliver Eltinger/ Zefa/ Cor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7564680" y="5342760"/>
            <a:ext cx="166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Dex Image/ Getty Im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A229-B827-4DFB-8DA6-E72356B8F4ED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Biology of Se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144792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iological sex is determined by the twenty-third pair of chromosomes. If the pair is XX, a female is produced. If the pair is XY, a male child is produ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652840" y="3276720"/>
            <a:ext cx="3809880" cy="326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E645-FA98-494A-A94A-F11E85E4BE4C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exual Different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5640" y="1600200"/>
            <a:ext cx="815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the mother’s womb, the male fetus is exposed to testosterone (because of the Y chromosome), which leads to the development of male genit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5640" y="39607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f low levels of testosterone are released in the uterus, the result is a fem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139C-029B-4038-9603-6CC7BD735CA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exual Different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640" y="18288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xual differentiation is not only biological, but also psychological and so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5640" y="3657600"/>
            <a:ext cx="815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ever, genes and hormones play a very important role in defining gender, especially in altering the brain and influencing gender differences as a res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826-0B6B-4DC5-A3D0-3ABDBBCF6DB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der Ro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ur culture shapes our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ender role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— expectations of how men and women are supposed to beh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1400" y="3962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ender Identity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— means how a person views himself or herself in terms of gen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6C52-F942-40A3-85AA-09B8D78CAB6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der Roles: Theo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14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Social Learning Theory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oposes that we learn gender behavior like any other behavior—reinforcement, punishment, and observ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ender Schema Theory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suggests that we learn a cultural “recipe” of how to be a male or a female, which influences our gender- based perceptions and behavi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D4DE-C6B1-4A25-8745-2D34A845246F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Nature, Nurture, and Human 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23800" y="1600200"/>
            <a:ext cx="625788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Reflections on Nature and Nur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D85-1BFC-49C6-86A5-270623EB249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Reflections on Nature and Nur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52480" y="1600200"/>
            <a:ext cx="7419960" cy="433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8BB-330A-48C0-8E58-EBB79E3EA536}" type="slidenum">
              <a:t>58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42640" y="1752120"/>
            <a:ext cx="66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Evolutionary Psychology: Understanding Human N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atural Selection and Adap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volutionary Success Helps Explain Simila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 Evolutionary Explanation of Human Sex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9C0-24BD-4ABA-9DDC-A86800249AD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423800" y="1600200"/>
            <a:ext cx="625788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Gender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840" indent="-250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der 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840" indent="-250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Nature of G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840" indent="-250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Nurture of G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Reflections on Nature and Nur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84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7837-AFC4-4E6E-8823-7DB6B12F4C1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Behavior Genetics: Predicting Individual 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1400" y="24004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Behavior Geneticist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study our differences and weigh the relative effects of heredity and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CDB5-E3FB-40DB-8660-C840A03800E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s: Our Codes for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1400" y="16002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hromosome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containing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NA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deoxyribonucleic acid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 are situated in the nucleus of a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9680" y="2752560"/>
            <a:ext cx="4699080" cy="393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EF1-799F-4521-BD66-D53EEDC2C73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00:32:17Z</dcterms:created>
  <dc:creator>HSU </dc:creator>
  <dc:description/>
  <dc:language>en-US</dc:language>
  <cp:lastModifiedBy>Ptwickler</cp:lastModifiedBy>
  <dcterms:modified xsi:type="dcterms:W3CDTF">2009-04-03T16:05:26Z</dcterms:modified>
  <cp:revision>1735</cp:revision>
  <dc:subject/>
  <dc:title>Memory</dc:title>
</cp:coreProperties>
</file>